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088-6FF5-4543-93C3-B6AC830D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ACF-FC2B-4D4C-88F6-CA3AD563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F58-16F8-4AD9-97EA-255FD6FC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D9D-C9B3-49CF-AE2B-5E7D9ECA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B329-C029-462D-816B-CCCECAB6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2F1-4A3E-4117-910C-821EC952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A157-0555-476F-9ECF-941A5BAA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AAC6-BDE7-40F6-B507-26EDE1AE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F2BB-E1F0-4785-8F15-D254C08F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4533-6ADF-4F2D-AC82-CE3B2DD4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28B3-F28F-4E4E-B750-84DF0C9D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D29-FBA4-45CD-B550-427FB33B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4EA7-6310-4AE5-887E-75D35670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4A8-D82D-4C20-81EE-BD030B26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4CD7-4B49-4491-BB8A-2E5F2BF1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81F0-4E5D-437A-B6E9-C2FCAED4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7C6-9C32-48E1-9F8D-15F3BA5F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18B-FAB0-4646-B1A0-6510880B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250-D174-4501-AFB3-B7DCFC6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1CF-9899-4FB1-BF8A-0C24B12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A79-BAEF-4D01-A642-979A057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828-A120-4E75-BF23-27A21B1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3CD-3279-427E-8930-7CFAE36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748-083A-4842-9374-DD080D7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AA8-3084-4888-A434-AC90CC682D5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8011-0C22-416D-9CC4-46609B52E92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mplifying Rational Expres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503440" y="2438280"/>
          <a:ext cx="435600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438280"/>
                    <a:ext cx="435600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124000" y="2438280"/>
          <a:ext cx="51166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38280"/>
                    <a:ext cx="51166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2124000" y="2438280"/>
          <a:ext cx="51166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38280"/>
                    <a:ext cx="51166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1951200" y="2438280"/>
          <a:ext cx="54622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2438280"/>
                    <a:ext cx="54622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295360" y="2438280"/>
          <a:ext cx="47721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2438280"/>
                    <a:ext cx="47721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917800" y="2438280"/>
          <a:ext cx="352728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7800" y="2438280"/>
                    <a:ext cx="352728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of 2 Squares:  (   +   )(    -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nd Check:  Multiply to get last number and add to get middl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 Lis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a GCF (if pos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using difference of 2 squares or guess and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l lik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505320" y="2438280"/>
          <a:ext cx="23493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438280"/>
                    <a:ext cx="23493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2814480" y="2506680"/>
          <a:ext cx="37306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06680"/>
                    <a:ext cx="37306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262240" y="2438280"/>
          <a:ext cx="48369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2438280"/>
                    <a:ext cx="48369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3090960" y="2506680"/>
          <a:ext cx="317952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0960" y="2506680"/>
                    <a:ext cx="3179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538360" y="2438280"/>
          <a:ext cx="4286160" cy="22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438280"/>
                    <a:ext cx="428616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43120" y="2370240"/>
          <a:ext cx="58770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2370240"/>
                    <a:ext cx="58770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4:44:13Z</dcterms:created>
  <dc:creator>Parkland School District</dc:creator>
  <dc:description/>
  <dc:language>en-US</dc:language>
  <cp:lastModifiedBy>test</cp:lastModifiedBy>
  <dcterms:modified xsi:type="dcterms:W3CDTF">2015-05-08T12:00:11Z</dcterms:modified>
  <cp:revision>3</cp:revision>
  <dc:subject/>
  <dc:title>Simplifying Rational Expressions</dc:title>
</cp:coreProperties>
</file>